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%D8%B3%D8%AD%D9%91%D8%A7%D8%A82.wav" ContentType="audio/x-wav"/>
  <Override PartName="/ppt/media/GUN.WAV" ContentType="audio/x-wav"/>
  <Override PartName="/ppt/media/RICOCHET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EBA9-F04C-41C6-9FD6-F9EB57900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D93B-90A1-4ADE-A6B5-FF1C2FE8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8F95-6E9D-40D2-AB34-23AED4EDC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8DEB-0EEE-457E-A194-8D4571816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D131-C4F1-4FB6-A58C-E2F5544D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806D-C1D2-4087-860B-C0D2BAD7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7154-4C77-4BE1-9EDB-64EB4AEF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3065-27CE-4913-8679-D4EE7660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204E-F43E-489F-8451-AD1C84CC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64A4-80C6-4379-8CF9-5EFF1EDA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9409-93E6-4751-A824-0B6CDCBA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1329-6D30-4077-AA84-F7168DEA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87B4F76-D51F-4DB8-AABD-6E27730D65C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audio" Target="../media/&#1587;&#1581;&#1617;&#1575;&#1576;2.wav"/><Relationship Id="rId6" Type="http://schemas.openxmlformats.org/officeDocument/2006/relationships/audio" Target="../media/GUN.WAV"/><Relationship Id="rId7" Type="http://schemas.openxmlformats.org/officeDocument/2006/relationships/audio" Target="../media/RICOCHET.WAV"/><Relationship Id="rId8" Type="http://schemas.openxmlformats.org/officeDocument/2006/relationships/audio" Target="../media/GUN.WAV"/><Relationship Id="rId9" Type="http://schemas.openxmlformats.org/officeDocument/2006/relationships/audio" Target="../media/RICOCHET.WAV"/><Relationship Id="rId10" Type="http://schemas.openxmlformats.org/officeDocument/2006/relationships/audio" Target="../media/GUN.WAV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00400" cy="1150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71600" y="1295280"/>
            <a:ext cx="7086600" cy="109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6600" spc="-1" strike="noStrike">
                <a:solidFill>
                  <a:srgbClr val="ffff00"/>
                </a:solidFill>
                <a:latin typeface="Times New Roman"/>
              </a:rPr>
              <a:t>حركة وتنسيق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791320" y="2681280"/>
            <a:ext cx="3351240" cy="120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4267080"/>
            <a:ext cx="7086600" cy="1098000"/>
          </a:xfrm>
          <a:prstGeom prst="rect">
            <a:avLst/>
          </a:prstGeom>
          <a:gradFill rotWithShape="0">
            <a:gsLst>
              <a:gs pos="0">
                <a:srgbClr val="ff0033"/>
              </a:gs>
              <a:gs pos="100000">
                <a:srgbClr val="b100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6600" spc="-1" strike="noStrike">
                <a:solidFill>
                  <a:srgbClr val="ffff00"/>
                </a:solidFill>
                <a:latin typeface="Times New Roman"/>
              </a:rPr>
              <a:t>اكتب هنا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4400" y="5573880"/>
            <a:ext cx="3566880" cy="1282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5" name="%D8%B3%D8%AD%D9%91%D8%A7%D8%A82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10T05:35:38Z</dcterms:created>
  <dc:creator>عادل باحداد</dc:creator>
  <dc:description/>
  <dc:language>en-US</dc:language>
  <cp:lastModifiedBy>nour3iny</cp:lastModifiedBy>
  <dcterms:modified xsi:type="dcterms:W3CDTF">2010-01-02T15:01:51Z</dcterms:modified>
  <cp:revision>26</cp:revision>
  <dc:subject/>
  <dc:title>No Slide Title</dc:title>
</cp:coreProperties>
</file>